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2CBD-BD62-4E87-860F-D5D42061C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761A-4BFD-4BCD-97D5-FE5AA0B6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reationrevolution.com/bacteria-share-metabolism-nanowir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website has the byline: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ing the world with the Truth of Creatio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it would be interesting to examine the kind of evidence presented to challenge Evolution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06DF-C79D-45D7-AE4B-DC65D72ED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anmarkltd.tripod.com/taxonomy/id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7C85-5386-48E7-A901-F0BA00088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parknotes.com/biology/microorganisms/monera/section1.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6932-C53D-4BA9-A9C5-5D2544F7C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8640-1477-4360-8430-0E24D5AB4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forum.ableton.com/viewtopic.php?f=40&amp;t=1872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mallerquestions.org/blog/2012/1/25/pathogenic-gut-microbes-induce-horizontal-gene-transf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D760-E103-4A21-B39C-04FDF3BF9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s://www.google.ca/search?q=bacterial+conjugation&amp;safe=strict&amp;client=safari&amp;rls=en&amp;dcr=0&amp;source=lnms&amp;tbm=isch&amp;sa=X&amp;ved=0ahUKEwjpytP4hqbaAhUC0oMKHahZD9QQ_AUICigB&amp;biw=890&amp;bih=531#imgrc=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E972-2526-4C28-9CB0-053A30B83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DCED-8BE2-4734-A186-88B591F7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althwise-everythinghealth.blogspot.ca/2011/03/lifesaving-antibiotics-losing-power-du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7159-0CBF-462A-96A6-820F33423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Antibiotic_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F0BA-1A2C-49EC-B242-98B74631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um.ox.ac.uk/thezone/animals/animalid/images/kingdom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C8C7-E4A1-40B1-B2F8-2B6A2DC4C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nogallery.info/news/?id=8694&amp;slid=news&amp;type=a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A75A-8F2F-4CD9-A4DD-02E40997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library/article/evo_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76E2-EF06-4957-B2DD-077859652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eripatus.gen.nz/biology/Taxonom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D4D4-0462-4223-AA64-C0B5912A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FE5C-25C2-4E53-AAE1-8B9936F8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cyanobacteria from: http://www.masterfile.com/stock-photography/image/861-03335947/Cyanobacteria-prokaryotes-once-called-Blue-Green-Algae.-LM-X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ACEC-F030-4656-B5F9-B0B3F6B01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. coli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alaeos.org/index.php?title=Eubacteria&amp;oldid=286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74A9-B0F8-4A7E-8DBC-72F3F74A9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E00-88B1-4179-A020-E712868A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7E7-1017-4F0B-AD96-A6B5F14B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49E-18ED-4073-907B-777B68ED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5F0-E159-43F5-B7C7-D2E91FCF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209-3427-45B7-B1D5-DB8E6655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CB1-52BA-45B5-A8AE-461628CA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65F-11D7-493D-85FE-04098229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80F-CDC4-4F83-BE62-91625FBE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17C-E4E0-47C5-AEFE-ED9360C1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A55-82E2-4E90-8DDF-A47DC34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24D-0FB1-4BA5-8FD2-BECED65E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D4E-0802-4176-A554-AE35EA08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7DCD-654A-45BC-AA8D-1E4F7CCCD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bacteria &amp; Archa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440" y="1773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loop of DNA + plasm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flagella, small hairlike p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cell walls with peptidogly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diverse domai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2" descr="typbacteria.jpg"/>
          <p:cNvPicPr/>
          <p:nvPr/>
        </p:nvPicPr>
        <p:blipFill>
          <a:blip r:embed="rId1"/>
          <a:srcRect l="0" t="-32501" r="0" b="-32501"/>
          <a:stretch/>
        </p:blipFill>
        <p:spPr>
          <a:xfrm>
            <a:off x="4500720" y="1628640"/>
            <a:ext cx="4319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hapes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tive 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can occur when DNA is being re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inary fission"/>
          <p:cNvPicPr/>
          <p:nvPr/>
        </p:nvPicPr>
        <p:blipFill>
          <a:blip r:embed="rId1"/>
          <a:stretch/>
        </p:blipFill>
        <p:spPr>
          <a:xfrm>
            <a:off x="4340160" y="1523880"/>
            <a:ext cx="3738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ways genetic information can be vari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gation “sexual reprodu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(including horizontal gene trans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6" descr="Picture%2B2.png"/>
          <p:cNvPicPr/>
          <p:nvPr/>
        </p:nvPicPr>
        <p:blipFill>
          <a:blip r:embed="rId1"/>
          <a:srcRect l="-48765" t="0" r="-48765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5" descr="g e.jpg"/>
          <p:cNvPicPr/>
          <p:nvPr/>
        </p:nvPicPr>
        <p:blipFill>
          <a:blip r:embed="rId1"/>
          <a:srcRect l="-1199" t="0" r="-1199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iotics &amp;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07880" y="143820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antibiotic-resistance"/>
          <p:cNvPicPr/>
          <p:nvPr/>
        </p:nvPicPr>
        <p:blipFill>
          <a:blip r:embed="rId1"/>
          <a:stretch/>
        </p:blipFill>
        <p:spPr>
          <a:xfrm>
            <a:off x="2151000" y="1981080"/>
            <a:ext cx="484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20px-Antibiotic_resistance"/>
          <p:cNvPicPr/>
          <p:nvPr/>
        </p:nvPicPr>
        <p:blipFill>
          <a:blip r:embed="rId1"/>
          <a:stretch/>
        </p:blipFill>
        <p:spPr>
          <a:xfrm>
            <a:off x="3075120" y="609480"/>
            <a:ext cx="2993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upon a time, there were only 5 Kingdo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kingdoms"/>
          <p:cNvPicPr/>
          <p:nvPr/>
        </p:nvPicPr>
        <p:blipFill>
          <a:blip r:embed="rId1"/>
          <a:stretch/>
        </p:blipFill>
        <p:spPr>
          <a:xfrm>
            <a:off x="1901880" y="1981080"/>
            <a:ext cx="526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n in 19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81492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 Woese looked very closely at the Archae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etermined that they were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just another taxon of the kingdom Mo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kingdom &amp; idea of domains were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arl_woese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of cell membrane &amp; cell wall very different from Eu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istinct from Eubacteria &amp;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3domains_200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 of 3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gmrRNA"/>
          <p:cNvPicPr/>
          <p:nvPr/>
        </p:nvPicPr>
        <p:blipFill>
          <a:blip r:embed="rId1"/>
          <a:stretch/>
        </p:blipFill>
        <p:spPr>
          <a:xfrm>
            <a:off x="2541600" y="1447920"/>
            <a:ext cx="3984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therm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roph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celled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embrane-bound orga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ce of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s (see next slide for examp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ful roles in ecosystems &amp;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l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let feve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eptococcus pyoge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ostridium tet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ulis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ostridium botuli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ax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illus anthrac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ra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brio choler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6:25:00Z</dcterms:created>
  <dc:creator>rubina khan</dc:creator>
  <dc:description/>
  <dc:language>en-US</dc:language>
  <cp:lastModifiedBy>rubina khan</cp:lastModifiedBy>
  <dcterms:modified xsi:type="dcterms:W3CDTF">2018-04-06T16:27:21Z</dcterms:modified>
  <cp:revision>70</cp:revision>
  <dc:subject/>
  <dc:title>PowerPoint Presentation</dc:title>
</cp:coreProperties>
</file>